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2B07-8C0F-4EC2-A12D-6E4674115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7542-031D-4C71-B5C5-A793A7C14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BC49-188B-4FF8-9CA8-670A3C6B5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9346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4226040"/>
            <a:ext cx="264852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9FA3-BB3E-40A4-B252-3852B0E0E0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1207-351D-4198-BCB5-218447D675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F090-7EF6-415D-AF03-0DEB08DF8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77AF-F794-4D84-BD80-BE087783B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2560-0AFE-4119-9D87-E4493B69C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8637-AF0F-4E7D-9CC5-414AD1ABC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6D97-A63B-4F17-BFCE-12A22E793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42260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8370-702F-4CAA-9510-3163B9129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934640"/>
            <a:ext cx="4014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26040"/>
            <a:ext cx="822636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264B-209E-476E-B3E0-DAC2F15E4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/>
              </a:gs>
              <a:gs pos="100000">
                <a:srgbClr val="00eb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/>
              </a:gs>
              <a:gs pos="100000">
                <a:srgbClr val="009b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19080" y="203040"/>
            <a:ext cx="9177480" cy="644760"/>
            <a:chOff x="-19080" y="203040"/>
            <a:chExt cx="9177480" cy="644760"/>
          </a:xfrm>
        </p:grpSpPr>
        <p:grpSp>
          <p:nvGrpSpPr>
            <p:cNvPr id="3" name="Group 4"/>
            <p:cNvGrpSpPr/>
            <p:nvPr/>
          </p:nvGrpSpPr>
          <p:grpSpPr>
            <a:xfrm>
              <a:off x="-19080" y="203040"/>
              <a:ext cx="9153720" cy="644760"/>
              <a:chOff x="-19080" y="203040"/>
              <a:chExt cx="9153720" cy="644760"/>
            </a:xfrm>
          </p:grpSpPr>
          <p:pic>
            <p:nvPicPr>
              <p:cNvPr id="4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1400" cy="64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Text Box 6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6" name="Group 7"/>
            <p:cNvGrpSpPr/>
            <p:nvPr/>
          </p:nvGrpSpPr>
          <p:grpSpPr>
            <a:xfrm>
              <a:off x="-19080" y="247680"/>
              <a:ext cx="9177480" cy="558720"/>
              <a:chOff x="-19080" y="247680"/>
              <a:chExt cx="9177480" cy="558720"/>
            </a:xfrm>
          </p:grpSpPr>
          <p:pic>
            <p:nvPicPr>
              <p:cNvPr id="7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164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Text Box 9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6840" y="1934640"/>
            <a:ext cx="8226360" cy="43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Text Box 12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1"/>
          </p:nvPr>
        </p:nvSpPr>
        <p:spPr>
          <a:xfrm>
            <a:off x="7924680" y="6356160"/>
            <a:ext cx="7588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7CC7A-64AE-4BC1-BF18-27C6AA2542C7}" type="slidenum">
              <a:rPr b="0" lang="en-US" sz="18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457200" y="276120"/>
            <a:ext cx="8229600" cy="60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John Willi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ntibiotics: Positive VS Negative Effect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57200" y="274680"/>
            <a:ext cx="82281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83" name="Group 2"/>
          <p:cNvGrpSpPr/>
          <p:nvPr/>
        </p:nvGrpSpPr>
        <p:grpSpPr>
          <a:xfrm>
            <a:off x="457200" y="228600"/>
            <a:ext cx="4035600" cy="3025800"/>
            <a:chOff x="457200" y="228600"/>
            <a:chExt cx="4035600" cy="3025800"/>
          </a:xfrm>
        </p:grpSpPr>
        <p:pic>
          <p:nvPicPr>
            <p:cNvPr id="84" name="Picture 3" descr=""/>
            <p:cNvPicPr/>
            <p:nvPr/>
          </p:nvPicPr>
          <p:blipFill>
            <a:blip r:embed="rId1"/>
            <a:stretch/>
          </p:blipFill>
          <p:spPr>
            <a:xfrm>
              <a:off x="457200" y="228600"/>
              <a:ext cx="4035600" cy="30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4"/>
            <p:cNvSpPr/>
            <p:nvPr/>
          </p:nvSpPr>
          <p:spPr>
            <a:xfrm>
              <a:off x="457200" y="228600"/>
              <a:ext cx="403560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86" name="Group 5"/>
          <p:cNvGrpSpPr/>
          <p:nvPr/>
        </p:nvGrpSpPr>
        <p:grpSpPr>
          <a:xfrm>
            <a:off x="4648320" y="228600"/>
            <a:ext cx="4037040" cy="3027240"/>
            <a:chOff x="4648320" y="228600"/>
            <a:chExt cx="4037040" cy="3027240"/>
          </a:xfrm>
        </p:grpSpPr>
        <p:pic>
          <p:nvPicPr>
            <p:cNvPr id="87" name="Picture 6" descr=""/>
            <p:cNvPicPr/>
            <p:nvPr/>
          </p:nvPicPr>
          <p:blipFill>
            <a:blip r:embed="rId2"/>
            <a:stretch/>
          </p:blipFill>
          <p:spPr>
            <a:xfrm>
              <a:off x="4648320" y="228600"/>
              <a:ext cx="4037040" cy="30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7"/>
            <p:cNvSpPr/>
            <p:nvPr/>
          </p:nvSpPr>
          <p:spPr>
            <a:xfrm>
              <a:off x="4648320" y="228600"/>
              <a:ext cx="4037040" cy="30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57200" y="274680"/>
            <a:ext cx="82281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Teaching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57200" y="1935000"/>
            <a:ext cx="82281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 created a PowerPoint as a guideline for teaching the class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PowerPoint was presented to the class while I went in detail in the subjec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88800" y="235080"/>
            <a:ext cx="40640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4648320" y="228600"/>
            <a:ext cx="4038480" cy="3029040"/>
            <a:chOff x="4648320" y="228600"/>
            <a:chExt cx="4038480" cy="3029040"/>
          </a:xfrm>
        </p:grpSpPr>
        <p:pic>
          <p:nvPicPr>
            <p:cNvPr id="96" name="Picture 6" descr=""/>
            <p:cNvPicPr/>
            <p:nvPr/>
          </p:nvPicPr>
          <p:blipFill>
            <a:blip r:embed="rId2"/>
            <a:stretch/>
          </p:blipFill>
          <p:spPr>
            <a:xfrm>
              <a:off x="4648320" y="228600"/>
              <a:ext cx="403848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/>
            <p:cNvSpPr/>
            <p:nvPr/>
          </p:nvSpPr>
          <p:spPr>
            <a:xfrm>
              <a:off x="4648320" y="228600"/>
              <a:ext cx="403848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415800" y="3505320"/>
            <a:ext cx="4040280" cy="3028680"/>
            <a:chOff x="415800" y="3505320"/>
            <a:chExt cx="4040280" cy="3028680"/>
          </a:xfrm>
        </p:grpSpPr>
        <p:pic>
          <p:nvPicPr>
            <p:cNvPr id="99" name="Picture 9" descr=""/>
            <p:cNvPicPr/>
            <p:nvPr/>
          </p:nvPicPr>
          <p:blipFill>
            <a:blip r:embed="rId3"/>
            <a:stretch/>
          </p:blipFill>
          <p:spPr>
            <a:xfrm>
              <a:off x="415800" y="3505320"/>
              <a:ext cx="4040280" cy="30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/>
            <p:cNvSpPr/>
            <p:nvPr/>
          </p:nvSpPr>
          <p:spPr>
            <a:xfrm>
              <a:off x="415800" y="3505320"/>
              <a:ext cx="4040280" cy="30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101" name="Picture 11" descr=""/>
          <p:cNvPicPr/>
          <p:nvPr/>
        </p:nvPicPr>
        <p:blipFill>
          <a:blip r:embed="rId4"/>
          <a:stretch/>
        </p:blipFill>
        <p:spPr>
          <a:xfrm>
            <a:off x="4648320" y="3505320"/>
            <a:ext cx="406404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-15840" y="152280"/>
            <a:ext cx="2962080" cy="3949920"/>
            <a:chOff x="-15840" y="152280"/>
            <a:chExt cx="2962080" cy="3949920"/>
          </a:xfrm>
        </p:grpSpPr>
        <p:pic>
          <p:nvPicPr>
            <p:cNvPr id="106" name="Picture 5" descr=""/>
            <p:cNvPicPr/>
            <p:nvPr/>
          </p:nvPicPr>
          <p:blipFill>
            <a:blip r:embed="rId1"/>
            <a:stretch/>
          </p:blipFill>
          <p:spPr>
            <a:xfrm>
              <a:off x="-15840" y="152280"/>
              <a:ext cx="296208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6"/>
            <p:cNvSpPr/>
            <p:nvPr/>
          </p:nvSpPr>
          <p:spPr>
            <a:xfrm>
              <a:off x="-15840" y="152280"/>
              <a:ext cx="2962080" cy="39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108" name="Group 7"/>
          <p:cNvGrpSpPr/>
          <p:nvPr/>
        </p:nvGrpSpPr>
        <p:grpSpPr>
          <a:xfrm>
            <a:off x="6180120" y="152280"/>
            <a:ext cx="2962440" cy="3949920"/>
            <a:chOff x="6180120" y="152280"/>
            <a:chExt cx="2962440" cy="3949920"/>
          </a:xfrm>
        </p:grpSpPr>
        <p:pic>
          <p:nvPicPr>
            <p:cNvPr id="109" name="Picture 8" descr=""/>
            <p:cNvPicPr/>
            <p:nvPr/>
          </p:nvPicPr>
          <p:blipFill>
            <a:blip r:embed="rId2"/>
            <a:stretch/>
          </p:blipFill>
          <p:spPr>
            <a:xfrm>
              <a:off x="6180120" y="152280"/>
              <a:ext cx="296244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9"/>
            <p:cNvSpPr/>
            <p:nvPr/>
          </p:nvSpPr>
          <p:spPr>
            <a:xfrm>
              <a:off x="6180120" y="152280"/>
              <a:ext cx="2962440" cy="39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3048120" y="152280"/>
            <a:ext cx="2971800" cy="3962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4"/>
          <a:stretch/>
        </p:blipFill>
        <p:spPr>
          <a:xfrm>
            <a:off x="76320" y="4267080"/>
            <a:ext cx="3276360" cy="2457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"/>
          <p:cNvPicPr/>
          <p:nvPr/>
        </p:nvPicPr>
        <p:blipFill>
          <a:blip r:embed="rId5"/>
          <a:stretch/>
        </p:blipFill>
        <p:spPr>
          <a:xfrm>
            <a:off x="5715000" y="4273560"/>
            <a:ext cx="3340080" cy="25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17" name="Group 4"/>
          <p:cNvGrpSpPr/>
          <p:nvPr/>
        </p:nvGrpSpPr>
        <p:grpSpPr>
          <a:xfrm>
            <a:off x="457200" y="304920"/>
            <a:ext cx="4038480" cy="3028680"/>
            <a:chOff x="457200" y="304920"/>
            <a:chExt cx="4038480" cy="3028680"/>
          </a:xfrm>
        </p:grpSpPr>
        <p:pic>
          <p:nvPicPr>
            <p:cNvPr id="118" name="Picture 5" descr="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4038480" cy="30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6"/>
            <p:cNvSpPr/>
            <p:nvPr/>
          </p:nvSpPr>
          <p:spPr>
            <a:xfrm>
              <a:off x="457200" y="304920"/>
              <a:ext cx="4038480" cy="30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120" name="Group 7"/>
          <p:cNvGrpSpPr/>
          <p:nvPr/>
        </p:nvGrpSpPr>
        <p:grpSpPr>
          <a:xfrm>
            <a:off x="4648320" y="304920"/>
            <a:ext cx="4039920" cy="3028680"/>
            <a:chOff x="4648320" y="304920"/>
            <a:chExt cx="4039920" cy="3028680"/>
          </a:xfrm>
        </p:grpSpPr>
        <p:pic>
          <p:nvPicPr>
            <p:cNvPr id="121" name="Picture 8" descr=""/>
            <p:cNvPicPr/>
            <p:nvPr/>
          </p:nvPicPr>
          <p:blipFill>
            <a:blip r:embed="rId2"/>
            <a:stretch/>
          </p:blipFill>
          <p:spPr>
            <a:xfrm>
              <a:off x="4648320" y="304920"/>
              <a:ext cx="4039920" cy="30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9"/>
            <p:cNvSpPr/>
            <p:nvPr/>
          </p:nvSpPr>
          <p:spPr>
            <a:xfrm>
              <a:off x="4648320" y="304920"/>
              <a:ext cx="4039920" cy="30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123" name="Picture 10" descr=""/>
          <p:cNvPicPr/>
          <p:nvPr/>
        </p:nvPicPr>
        <p:blipFill>
          <a:blip r:embed="rId3"/>
          <a:stretch/>
        </p:blipFill>
        <p:spPr>
          <a:xfrm>
            <a:off x="46512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Successes and Challenges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Success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ime managemen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aper and Product finished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 was able to raise about 100 dollars for ECU’s Medical and Health Science Founda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Challeng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rganiza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ource Scarc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nding something to do for the Produc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128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457200" y="274680"/>
            <a:ext cx="82281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Where to Next?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457200" y="1935000"/>
            <a:ext cx="82281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choo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re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at I will take awa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5572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imSun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85572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imSun"/>
              </a:rPr>
              <a:t>Knowledge of Resista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85572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imSun"/>
              </a:rPr>
              <a:t>Business Skill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274680"/>
            <a:ext cx="8228160" cy="65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"American Anthrax Outbreak of 2001." UCLA School of Public Health | Building Healthy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Futures... Web. 05 Apr. 2011.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&lt;http://www.ph.ucla.edu/epi/bioter/detect/antdetect_intro.html&gt;.</a:t>
            </a: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Antibiotics: MedlinePlus." National Library of Medicine - National Institutes of Health.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Web. 04 Apr. 2011. &lt;http://www.nlm.nih.gov/medlineplus/antibiotics.html&gt;.</a:t>
            </a: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"Attorney General." CT.gov Portal. Web. 05 Apr. 2011.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&lt;http://www.ct.gov/ag/cwp/view.asp?A=1776&gt;.</a:t>
            </a: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"CDC Anthrax Q &amp; A: Preventive Therapy." CDC Emergency Preparedness &amp; Response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Site. Web. 05 Apr. 2011.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&lt;http://www.bt.cdc.gov/agent/anthrax/faq/preventive.asp&gt;.</a:t>
            </a: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Cirz RT, Chin JK, Andes DR, de Crécy-Lagard V, Craig WA, et al. Inhibition of Mutation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and Combating the Evolution of Antibiotic Resistance. PloS Magazine. June 2005.</a:t>
            </a: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"General Background: About Antibiotic Resistance." Tufts University. Web. 05 Apr.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2011. &lt;http://www.tufts.edu/med/apua/about_issue/about_antibioticres.shtml&gt;.</a:t>
            </a: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"General Background: About Bacteria &amp; Antibiotics." Tufts University. Web. 05 Apr.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2011. &lt;http://www.tufts.edu/med/apua/about_issue/about_bacteria.shtml&gt;.</a:t>
            </a: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"General Background: Bioterrorism &amp; Stockpiling Antibiotics." Tufts University. Web. 05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Apr. 2011. &lt;http://www.tufts.edu/med/apua/about_issue/bioterrorism.shtml&gt;.</a:t>
            </a: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Mayer, Gene. "Antibiotics." Biomedical Sciences Graduate Program. Web. 05 Apr. 2011.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&lt;http://pathmicro.med.sc.edu/mayer/antibiot.htm&gt;.</a:t>
            </a: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Smith DL, Dushoff J, Morris JG Jr. Agricultural Antibiotics and Human Health. PloS 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Magazine.  July 2005</a:t>
            </a:r>
            <a:br>
              <a:rPr sz="1200"/>
            </a:b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457200" y="274680"/>
            <a:ext cx="8228160" cy="39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libri"/>
              </a:rPr>
              <a:t>Education Exempt from Copyright: This presentation has been prepared under the fair use exemtion of the US Copyright Law and is restricted from further use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457200" y="274680"/>
            <a:ext cx="82281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Any Questions?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Interest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Medical Fiel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would require me to know about the concept of resistan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Paper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935000"/>
            <a:ext cx="82296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riving Question: Are antibiotics more harmful than helpful and what can we, as people, do to prevent bacteria from becoming resistant to them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sis State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SimSun"/>
              </a:rPr>
              <a:t>More harmful than helpfu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SimSun"/>
              </a:rPr>
              <a:t>Agricult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SimSun"/>
              </a:rPr>
              <a:t>Bioterroris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SimSun"/>
              </a:rPr>
              <a:t>Preventing resista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SimSun"/>
              </a:rPr>
              <a:t>Proper dosag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SimSun"/>
              </a:rPr>
              <a:t>Reducing stockpil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57200" y="276120"/>
            <a:ext cx="822960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Paper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teresting Facts I learned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6996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imSun"/>
              </a:rPr>
              <a:t>Before, I didn't know that bacteria of different species could exchange genetic information via conjugation, a mating proces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6996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imSun"/>
              </a:rPr>
              <a:t>Antibiotic resistance can affect how well crops grow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69960" indent="-2700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imSun"/>
              </a:rPr>
              <a:t>Proper dosages affect everyday lif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457200" y="274680"/>
            <a:ext cx="82281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Summary of What I Learned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57200" y="1935000"/>
            <a:ext cx="82281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 learned many things while doing the NCGP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imSun"/>
              </a:rPr>
              <a:t>Concept of resista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imSun"/>
              </a:rPr>
              <a:t>Time Managemen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  <a:ea typeface="SimSun"/>
              </a:rPr>
              <a:t>Public Speaking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74124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457200" y="274680"/>
            <a:ext cx="82281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Product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457200" y="1935000"/>
            <a:ext cx="82281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und Raising for ECU’s Medical and Health Sciences Found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eaching a class about my topi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tabLst>
                <a:tab algn="l" pos="0"/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 did not have a Ment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457200" y="274680"/>
            <a:ext cx="82281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Fund Raising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935000"/>
            <a:ext cx="82281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 made cake pops to sell for 5o cents eac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 made a total profit of around 100 dolla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 made a Facebook Event that invited everyone I could to participat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CU’s Medical and Health Science Foundation is for educating and researching things in the Medical and Health Science field, including antibiotic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457200" y="274680"/>
            <a:ext cx="82281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65" name="Group 2"/>
          <p:cNvGrpSpPr/>
          <p:nvPr/>
        </p:nvGrpSpPr>
        <p:grpSpPr>
          <a:xfrm>
            <a:off x="457200" y="228600"/>
            <a:ext cx="4035600" cy="3025800"/>
            <a:chOff x="457200" y="228600"/>
            <a:chExt cx="4035600" cy="3025800"/>
          </a:xfrm>
        </p:grpSpPr>
        <p:pic>
          <p:nvPicPr>
            <p:cNvPr id="66" name="Picture 3" descr=""/>
            <p:cNvPicPr/>
            <p:nvPr/>
          </p:nvPicPr>
          <p:blipFill>
            <a:blip r:embed="rId1"/>
            <a:stretch/>
          </p:blipFill>
          <p:spPr>
            <a:xfrm>
              <a:off x="457200" y="228600"/>
              <a:ext cx="4035600" cy="30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4"/>
            <p:cNvSpPr/>
            <p:nvPr/>
          </p:nvSpPr>
          <p:spPr>
            <a:xfrm>
              <a:off x="457200" y="228600"/>
              <a:ext cx="403560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114800" cy="30481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6"/>
          <p:cNvGrpSpPr/>
          <p:nvPr/>
        </p:nvGrpSpPr>
        <p:grpSpPr>
          <a:xfrm>
            <a:off x="457200" y="3429000"/>
            <a:ext cx="4037040" cy="3027240"/>
            <a:chOff x="457200" y="3429000"/>
            <a:chExt cx="4037040" cy="3027240"/>
          </a:xfrm>
        </p:grpSpPr>
        <p:pic>
          <p:nvPicPr>
            <p:cNvPr id="70" name="Picture 7" descr=""/>
            <p:cNvPicPr/>
            <p:nvPr/>
          </p:nvPicPr>
          <p:blipFill>
            <a:blip r:embed="rId3"/>
            <a:stretch/>
          </p:blipFill>
          <p:spPr>
            <a:xfrm>
              <a:off x="457200" y="3429000"/>
              <a:ext cx="4037040" cy="30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8"/>
            <p:cNvSpPr/>
            <p:nvPr/>
          </p:nvSpPr>
          <p:spPr>
            <a:xfrm>
              <a:off x="457200" y="3429000"/>
              <a:ext cx="4037040" cy="30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72" name="Picture 9" descr=""/>
          <p:cNvPicPr/>
          <p:nvPr/>
        </p:nvPicPr>
        <p:blipFill>
          <a:blip r:embed="rId4"/>
          <a:stretch/>
        </p:blipFill>
        <p:spPr>
          <a:xfrm>
            <a:off x="4605480" y="3405240"/>
            <a:ext cx="409572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457200" y="274680"/>
            <a:ext cx="82281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74" name="Group 2"/>
          <p:cNvGrpSpPr/>
          <p:nvPr/>
        </p:nvGrpSpPr>
        <p:grpSpPr>
          <a:xfrm>
            <a:off x="457200" y="228600"/>
            <a:ext cx="4035600" cy="3025800"/>
            <a:chOff x="457200" y="228600"/>
            <a:chExt cx="4035600" cy="3025800"/>
          </a:xfrm>
        </p:grpSpPr>
        <p:pic>
          <p:nvPicPr>
            <p:cNvPr id="75" name="Picture 3" descr=""/>
            <p:cNvPicPr/>
            <p:nvPr/>
          </p:nvPicPr>
          <p:blipFill>
            <a:blip r:embed="rId1"/>
            <a:stretch/>
          </p:blipFill>
          <p:spPr>
            <a:xfrm>
              <a:off x="457200" y="228600"/>
              <a:ext cx="4035600" cy="30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4"/>
            <p:cNvSpPr/>
            <p:nvPr/>
          </p:nvSpPr>
          <p:spPr>
            <a:xfrm>
              <a:off x="457200" y="228600"/>
              <a:ext cx="403560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77" name="Group 5"/>
          <p:cNvGrpSpPr/>
          <p:nvPr/>
        </p:nvGrpSpPr>
        <p:grpSpPr>
          <a:xfrm>
            <a:off x="4572000" y="228600"/>
            <a:ext cx="4037040" cy="3027240"/>
            <a:chOff x="4572000" y="228600"/>
            <a:chExt cx="4037040" cy="3027240"/>
          </a:xfrm>
        </p:grpSpPr>
        <p:pic>
          <p:nvPicPr>
            <p:cNvPr id="78" name="Picture 6" descr=""/>
            <p:cNvPicPr/>
            <p:nvPr/>
          </p:nvPicPr>
          <p:blipFill>
            <a:blip r:embed="rId2"/>
            <a:stretch/>
          </p:blipFill>
          <p:spPr>
            <a:xfrm>
              <a:off x="4572000" y="228600"/>
              <a:ext cx="4037040" cy="30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7"/>
            <p:cNvSpPr/>
            <p:nvPr/>
          </p:nvSpPr>
          <p:spPr>
            <a:xfrm>
              <a:off x="4572000" y="228600"/>
              <a:ext cx="4037040" cy="30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457200" y="33526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"/>
          <p:cNvPicPr/>
          <p:nvPr/>
        </p:nvPicPr>
        <p:blipFill>
          <a:blip r:embed="rId4"/>
          <a:stretch/>
        </p:blipFill>
        <p:spPr>
          <a:xfrm>
            <a:off x="4572000" y="3352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17:05:48Z</dcterms:created>
  <dc:creator>John</dc:creator>
  <dc:description/>
  <dc:language>en-US</dc:language>
  <cp:lastModifiedBy>John</cp:lastModifiedBy>
  <dcterms:modified xsi:type="dcterms:W3CDTF">2012-04-17T18:19:45Z</dcterms:modified>
  <cp:revision>15</cp:revision>
  <dc:subject/>
  <dc:title>PowerPoint Presentation</dc:title>
</cp:coreProperties>
</file>